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362-EE84-4CDC-A651-FFE23E85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A1C-2CF3-4A3C-8500-66C6B621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F60F-9B71-4BE7-BE0A-6D93B065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915-910B-4B9A-B8C8-6A39C2C5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930F-B6CE-421B-9363-3CAFA980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C499-A164-4190-AB2C-F01F8E93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157D-99EF-4FAF-8E56-F7C4AD52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1BF7-75EC-4994-864D-5B461172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B07A-99C5-468C-980D-22ED6AF3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E87B-D6B6-4A47-9210-6B3A9B14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794B-2151-4559-A8E0-B5B5661C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280-1579-49D2-81E1-8F8CB9D4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4FA9-9B9C-482E-BE5B-3C98E7AD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D20A-B68E-4AEF-86DD-E4CD5D25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EBD6-5920-40E9-84AF-A915ED4F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6297-120C-4204-94C2-C24D695C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B42B-FDBA-4930-827F-73A27388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D35-1213-4FA6-8FE8-C240796D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4470-BCF7-4D7F-8018-9B828088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8409-15C8-4341-A0A8-150A11B9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F32-6AC8-4958-9755-C07B7ECF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8B18-AAE4-4CDA-9BAA-5BCF70AE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C97B-04D2-4F48-8496-B8535A7B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A17-F0D2-475F-9738-12AF1A32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5B9E-3319-4168-80A3-4A5B53F7C6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EB2E-3C76-4804-95B8-59122CC500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5920" y="2203560"/>
            <a:ext cx="715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ORÓWNYWANIE UŁAMKÓW O TYCH SAMYCH MIANOWNIK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27360" y="375444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ęcej figury zamalowała Ania, poniewa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02000" y="1776240"/>
            <a:ext cx="30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ięcej pizzy zjadł Lolek, poniewa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08080" y="6039000"/>
            <a:ext cx="59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 odległość punktu jest większa, która leży dalej od zera; zat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953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2360" y="863640"/>
            <a:ext cx="65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) Bolek zjadł    , a  Lolek    tej samej pizzy. Który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z chłopców zjadł więcej pizz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979720" y="830160"/>
                <a:ext cx="152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" name=""/>
          <p:cNvGrpSpPr/>
          <p:nvPr/>
        </p:nvGrpSpPr>
        <p:grpSpPr>
          <a:xfrm>
            <a:off x="6732720" y="1360440"/>
            <a:ext cx="946080" cy="1393920"/>
            <a:chOff x="6732720" y="1360440"/>
            <a:chExt cx="946080" cy="139392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6732720" y="1360440"/>
              <a:ext cx="946080" cy="1393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6777720" y="2397240"/>
                  <a:ext cx="149040" cy="34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122720" y="819000"/>
                <a:ext cx="152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1376280" y="2889360"/>
            <a:ext cx="68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) Ania zamalowała    figury, Lenka    figury. Która z dziewczynek zamalowała większą część figu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81280" y="2889360"/>
                <a:ext cx="152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157720" y="2889360"/>
                <a:ext cx="152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1467000" y="5003640"/>
            <a:ext cx="5759280" cy="393840"/>
            <a:chOff x="1467000" y="5003640"/>
            <a:chExt cx="5759280" cy="393840"/>
          </a:xfrm>
        </p:grpSpPr>
        <p:sp>
          <p:nvSpPr>
            <p:cNvPr id="111" name=""/>
            <p:cNvSpPr/>
            <p:nvPr/>
          </p:nvSpPr>
          <p:spPr>
            <a:xfrm>
              <a:off x="1467000" y="5003640"/>
              <a:ext cx="57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) Na osi liczbowej zaznaczono punkty    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5832360" y="5003640"/>
                  <a:ext cx="2160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5472000" y="5003640"/>
                  <a:ext cx="2160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951360" y="5678640"/>
                <a:ext cx="2160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030640" y="5678640"/>
                <a:ext cx="2160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27800" y="4340160"/>
                <a:ext cx="393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573880" y="2090880"/>
                <a:ext cx="3934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748480" y="6354720"/>
                <a:ext cx="5331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2141640" y="3519360"/>
            <a:ext cx="1214280" cy="1452240"/>
            <a:chOff x="2141640" y="3519360"/>
            <a:chExt cx="1214280" cy="1452240"/>
          </a:xfrm>
        </p:grpSpPr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673000" y="4628880"/>
                  <a:ext cx="1285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2141640" y="3519360"/>
              <a:ext cx="1214280" cy="113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6642000" y="3564000"/>
            <a:ext cx="1170000" cy="1439280"/>
            <a:chOff x="6642000" y="3564000"/>
            <a:chExt cx="1170000" cy="1439280"/>
          </a:xfrm>
        </p:grpSpPr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7170120" y="4660920"/>
                  <a:ext cx="127440" cy="34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6642000" y="3564000"/>
              <a:ext cx="1170000" cy="109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2050920" y="1554120"/>
            <a:ext cx="1306800" cy="1335240"/>
            <a:chOff x="2050920" y="1554120"/>
            <a:chExt cx="1306800" cy="1335240"/>
          </a:xfrm>
        </p:grpSpPr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2050920" y="1554120"/>
              <a:ext cx="1306800" cy="1335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2281320" y="1739880"/>
                  <a:ext cx="129960" cy="34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29" name=""/>
          <p:cNvGraphicFramePr/>
          <p:nvPr/>
        </p:nvGraphicFramePr>
        <p:xfrm>
          <a:off x="1871640" y="5543640"/>
          <a:ext cx="5434200" cy="14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71640" y="5543640"/>
                    <a:ext cx="5434200" cy="14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2367000" y="562752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62752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53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827360" y="1306440"/>
            <a:ext cx="6165720" cy="4508280"/>
            <a:chOff x="1827360" y="1306440"/>
            <a:chExt cx="6165720" cy="4508280"/>
          </a:xfrm>
        </p:grpSpPr>
        <p:graphicFrame>
          <p:nvGraphicFramePr>
            <p:cNvPr id="137" name=""/>
            <p:cNvGraphicFramePr/>
            <p:nvPr/>
          </p:nvGraphicFramePr>
          <p:xfrm>
            <a:off x="1827360" y="1306440"/>
            <a:ext cx="6165720" cy="450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7360" y="1306440"/>
                      <a:ext cx="6165720" cy="450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2141640" y="1947600"/>
              <a:ext cx="5580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Z dwóch ułamków </a:t>
              </a:r>
              <a:br>
                <a:rPr sz="4000"/>
              </a:b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1" lang="en-US" sz="4000" spc="-1" strike="noStrike">
                  <a:solidFill>
                    <a:srgbClr val="3333cc"/>
                  </a:solidFill>
                  <a:latin typeface="Arial"/>
                </a:rPr>
                <a:t>tych samych mianownikach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większy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jest ten, który ma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większy liczni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42:12Z</dcterms:modified>
  <cp:revision>49</cp:revision>
  <dc:subject/>
  <dc:title>Slajd 1</dc:title>
</cp:coreProperties>
</file>